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CB02-3FAF-479F-86F7-0CE5B8B0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A49-E8AD-4AB2-9734-3F163FB9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67AC-3F7E-4C73-BF6C-03A9E385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801D-BB4C-4969-8E4A-1624A90F2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29C3-5B63-435E-843A-C58E3644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A550-4748-498B-A7D4-F1FEB88D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2477-92D6-48ED-B218-4B6C046E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C474-BBE1-4A01-8D67-E263CF65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DEDE-6EC2-4354-9DCB-9C26C70D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A4ED-6CE7-4548-B63F-2AB31D6F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E614-CB30-4EC4-BF4B-55A36A00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9AF1-D63D-4E4A-9A30-AA91A7DA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CA92-0F29-479F-B092-572A86A66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75720" y="5859360"/>
            <a:ext cx="3952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Exemple de symboles de flow-chart – Symboles de tâch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9560" y="1438200"/>
            <a:ext cx="5924880" cy="397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63800" y="5859360"/>
            <a:ext cx="498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Exemple de symboles de flow-chart – Symboles de support d’inform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09560" y="549360"/>
            <a:ext cx="5924880" cy="493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72840" y="5859360"/>
            <a:ext cx="3955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Exemple de symboles de flow-chart – Symboles de liais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06640" y="728640"/>
            <a:ext cx="5133960" cy="494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0:02:01Z</dcterms:created>
  <dc:creator>HPM</dc:creator>
  <dc:description/>
  <dc:language>en-US</dc:language>
  <cp:lastModifiedBy>rochas</cp:lastModifiedBy>
  <dcterms:modified xsi:type="dcterms:W3CDTF">2006-08-03T09:13:09Z</dcterms:modified>
  <cp:revision>79</cp:revision>
  <dc:subject/>
  <dc:title>Présentation PowerPoint</dc:title>
</cp:coreProperties>
</file>